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EDA8-D1D7-4083-887E-568229759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8A14-4244-4929-806C-E4E599A9E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380-7D32-4467-B75F-BC72E3C0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0C1-B3CA-4731-BFC4-0D4D391D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3FA-256F-46FA-8CA4-170DB471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84A-5CEE-46F8-A0A0-E6F90675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28F6-A695-418E-BFB5-41B51C55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BB20-DC58-4AD0-ACBE-735543ED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B6CD-7E5B-4C7E-B494-C7AAFBD0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BB86-8382-4F64-AC0F-BA7451DC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67F4-4802-4F9E-BA0C-1EA76394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C859-69D0-401C-918B-56A7A735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2AC9-B8BB-4AEE-8CC5-82589312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066-8986-4402-8802-9C9853C4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EF8D-6810-47CC-80CA-A41B8A27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B61D-1205-4777-8F98-CA654F2A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EE30-A003-4354-B494-F5ACB004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21E3-F8C4-4409-A593-F9A9B491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C8B9-CCE8-4822-833D-388535DF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B309F-4CD4-4855-86F5-BA6EAB69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F9D04-5BEB-45FA-8E1D-2E97EA3C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CFDEB-CD1B-4421-8C20-C1BC2759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7F9AA-98CC-4A95-ACBC-592E6766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62FCF-A9FC-44F4-9B96-40ADCAF8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955-18BC-4E2C-96AE-A63D4EE7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15DE6-EA2D-4BDC-A031-949B8351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44D8B-F6B5-4B3C-9B59-616084CF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0DC57-815E-4950-BFDA-B1D60FD8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E1268-1D25-4959-AF41-2D380CE4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5CF04-2E39-49AC-AF10-C5DB558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25F1D-3B2A-419C-B1DB-55F90AF4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21A09-E0BA-4E1B-B99F-A4A8F37D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CCDF-F464-4503-8682-C373DF91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AC1EB-D163-41E6-B98C-2457ED8B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7A14-8847-4F4D-99DB-2FB8317C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287-982D-4370-9404-265399A5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02C3E-F34C-4C07-BDDC-F36969C7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E2C2-98D1-471E-9F84-8FEBF5AD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B94B-299E-4C46-82BC-C7405D46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C8E71-8B4B-4ED3-A61B-40D3D35A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EEAFE-E5BE-4053-AD51-2E5C29D9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B5EE6-05C8-45F6-9E8F-03BDA2AD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62417-3A75-42B6-A006-F12D3A21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8CCC6-3E80-4661-8428-279698C8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2BDB2-838F-4512-8698-6201CF44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2D3-E485-4EA2-A29A-8F42E15F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D85-1383-45A7-A4D7-13AF35F3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9E2-6F90-4E02-A843-3F386A9A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6FD-2CB7-47A9-A4A7-EA71FE55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DAB-082D-4AE7-A4A8-3AC82252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92AC-AD46-4000-BBB4-2FF10E3633EC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2A16-BB4B-40E6-9C76-9F1EB2C3036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C49C-5862-4941-BD61-C7D9047126F4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7097-9594-4B0E-93CE-A57AACD21D9C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A8C6-72FA-45B2-8F1E-700E1475F2C0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0B54-D9A5-4D96-BB4C-047480923B4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752F-9374-44CE-B8BD-71B6EB3710C2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15E5-2200-4786-8FFE-080FA1A56CA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outh Dakota AFNR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Academic Integration Activities: Example #8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42560" y="2323800"/>
            <a:ext cx="76438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dentify what we kno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The scale we want to go to is ½ inch is equal to one foot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We know the bunk is 8 feet long and 2 ½ feet wid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e want to find out how long an 8 foot and a 2 ½ foot line would be on a ½ inch = 1 foot scal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his is a two-part problem because we need to figure how long two different lines would be, the 8 foot and the 2 ½ foot lin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733320" y="2193840"/>
          <a:ext cx="7696440" cy="3927600"/>
        </p:xfrm>
        <a:graphic>
          <a:graphicData uri="http://schemas.openxmlformats.org/drawingml/2006/table">
            <a:tbl>
              <a:tblPr/>
              <a:tblGrid>
                <a:gridCol w="2133720"/>
                <a:gridCol w="2666880"/>
                <a:gridCol w="2895840"/>
              </a:tblGrid>
              <a:tr h="424080">
                <a:tc>
                  <a:txBody>
                    <a:bodyPr lIns="87480" rIns="87480" tIns="0" bIns="0" anchor="t">
                      <a:noAutofit/>
                    </a:bodyPr>
                    <a:p>
                      <a:pPr marL="171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r the 8 foot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r the 2 ½ foot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01640">
                <a:tc>
                  <a:txBody>
                    <a:bodyPr lIns="87480" rIns="87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et up the ratio: a/b = c/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foot/½ inch = 8 feet/x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foot/½ inch = 2 ½ foot/x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2960">
                <a:tc>
                  <a:txBody>
                    <a:bodyPr lIns="87480" rIns="87480" tIns="0" bIns="0" anchor="ctr">
                      <a:noAutofit/>
                    </a:bodyPr>
                    <a:p>
                      <a:pPr marL="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ross Multip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foot            8 f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½ inch          x inches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foot           2 ½ fo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½ inch          x inches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50640">
                <a:tc>
                  <a:txBody>
                    <a:bodyPr lIns="87480" rIns="87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o 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x = 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x = 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81000">
                <a:tc>
                  <a:txBody>
                    <a:bodyPr lIns="87480" rIns="87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et x a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x     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      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x     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        1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51000">
                <a:tc>
                  <a:txBody>
                    <a:bodyPr lIns="87480" rIns="87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x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= 4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= 1.25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76280">
                <a:tc>
                  <a:txBody>
                    <a:bodyPr lIns="87480" rIns="87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 8 foot length is 4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87480" rIns="87480" tIns="0" bIns="0" anchor="ctr">
                      <a:noAutofit/>
                    </a:bodyPr>
                    <a:p>
                      <a:pPr marL="171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 2 ½ foot width is 1.25 in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371" name="Rectangle 11"/>
          <p:cNvSpPr/>
          <p:nvPr/>
        </p:nvSpPr>
        <p:spPr>
          <a:xfrm>
            <a:off x="4128840" y="3448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Straight Arrow Connector 12"/>
          <p:cNvCxnSpPr/>
          <p:nvPr/>
        </p:nvCxnSpPr>
        <p:spPr>
          <a:xfrm>
            <a:off x="4098960" y="3439800"/>
            <a:ext cx="364320" cy="3466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73" name="Straight Arrow Connector 13"/>
          <p:cNvCxnSpPr/>
          <p:nvPr/>
        </p:nvCxnSpPr>
        <p:spPr>
          <a:xfrm flipH="1">
            <a:off x="4101480" y="3425760"/>
            <a:ext cx="346680" cy="364320"/>
          </a:xfrm>
          <a:prstGeom prst="straightConnector1">
            <a:avLst/>
          </a:prstGeom>
          <a:ln w="9360">
            <a:solidFill>
              <a:srgbClr val="94c600"/>
            </a:solidFill>
            <a:miter/>
            <a:headEnd len="med" type="arrow" w="med"/>
          </a:ln>
        </p:spPr>
      </p:cxnSp>
      <p:sp>
        <p:nvSpPr>
          <p:cNvPr id="374" name="Rectangle 14"/>
          <p:cNvSpPr/>
          <p:nvPr/>
        </p:nvSpPr>
        <p:spPr>
          <a:xfrm>
            <a:off x="6819480" y="3440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Straight Arrow Connector 15"/>
          <p:cNvCxnSpPr/>
          <p:nvPr/>
        </p:nvCxnSpPr>
        <p:spPr>
          <a:xfrm>
            <a:off x="6789600" y="3433320"/>
            <a:ext cx="364320" cy="34524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76" name="Straight Arrow Connector 16"/>
          <p:cNvCxnSpPr/>
          <p:nvPr/>
        </p:nvCxnSpPr>
        <p:spPr>
          <a:xfrm flipH="1">
            <a:off x="6792120" y="3419280"/>
            <a:ext cx="345240" cy="363960"/>
          </a:xfrm>
          <a:prstGeom prst="straightConnector1">
            <a:avLst/>
          </a:prstGeom>
          <a:ln w="9360">
            <a:solidFill>
              <a:srgbClr val="94c600"/>
            </a:solidFill>
            <a:miter/>
            <a:headEnd len="med" type="arrow" w="med"/>
          </a:ln>
        </p:spPr>
      </p:cxnSp>
      <p:sp>
        <p:nvSpPr>
          <p:cNvPr id="377" name="Straight Connector 19"/>
          <p:cNvSpPr/>
          <p:nvPr/>
        </p:nvSpPr>
        <p:spPr>
          <a:xfrm>
            <a:off x="3452760" y="3632040"/>
            <a:ext cx="6238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2"/>
          <p:cNvSpPr/>
          <p:nvPr/>
        </p:nvSpPr>
        <p:spPr>
          <a:xfrm>
            <a:off x="4505400" y="3629160"/>
            <a:ext cx="6238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23"/>
          <p:cNvSpPr/>
          <p:nvPr/>
        </p:nvSpPr>
        <p:spPr>
          <a:xfrm>
            <a:off x="6130800" y="3632040"/>
            <a:ext cx="6256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4"/>
          <p:cNvSpPr/>
          <p:nvPr/>
        </p:nvSpPr>
        <p:spPr>
          <a:xfrm>
            <a:off x="7224840" y="3629160"/>
            <a:ext cx="6238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25"/>
          <p:cNvSpPr/>
          <p:nvPr/>
        </p:nvSpPr>
        <p:spPr>
          <a:xfrm>
            <a:off x="6553080" y="4795920"/>
            <a:ext cx="2890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28"/>
          <p:cNvSpPr/>
          <p:nvPr/>
        </p:nvSpPr>
        <p:spPr>
          <a:xfrm>
            <a:off x="7183440" y="4795920"/>
            <a:ext cx="2890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31"/>
          <p:cNvSpPr/>
          <p:nvPr/>
        </p:nvSpPr>
        <p:spPr>
          <a:xfrm>
            <a:off x="3909960" y="4800600"/>
            <a:ext cx="2890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32"/>
          <p:cNvSpPr/>
          <p:nvPr/>
        </p:nvSpPr>
        <p:spPr>
          <a:xfrm>
            <a:off x="4435560" y="4800600"/>
            <a:ext cx="28872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3"/>
          <p:cNvSpPr/>
          <p:nvPr/>
        </p:nvSpPr>
        <p:spPr>
          <a:xfrm>
            <a:off x="4172400" y="4627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4"/>
          <p:cNvSpPr/>
          <p:nvPr/>
        </p:nvSpPr>
        <p:spPr>
          <a:xfrm>
            <a:off x="6886080" y="4627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you are given a toy farm tractor at a 1/8 inch equals 1 foot scale. When you measure the toy tractor it is 2 inches from where the wheels touch the desk to the top of the cab. How tall would the actual tractor be if it is exactly proportional to the 1/8 inch scal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swer: 16 fee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1/8 inch    2 inches</a:t>
            </a:r>
            <a:br>
              <a:rPr sz="2200"/>
            </a:b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1 foot         x fee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1/8x = 2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ivide both sides by 1/8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x = 16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1" name="Straight Connector 5"/>
          <p:cNvSpPr/>
          <p:nvPr/>
        </p:nvSpPr>
        <p:spPr>
          <a:xfrm>
            <a:off x="1828800" y="3137040"/>
            <a:ext cx="99072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7"/>
          <p:cNvSpPr/>
          <p:nvPr/>
        </p:nvSpPr>
        <p:spPr>
          <a:xfrm>
            <a:off x="3200400" y="3139920"/>
            <a:ext cx="99072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2849760" y="2954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the sketches of these two metal brackets are proportional to each other. What is the value of x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396" name="Group 1"/>
          <p:cNvGrpSpPr/>
          <p:nvPr/>
        </p:nvGrpSpPr>
        <p:grpSpPr>
          <a:xfrm>
            <a:off x="1066680" y="3828960"/>
            <a:ext cx="3814920" cy="2216160"/>
            <a:chOff x="1066680" y="3828960"/>
            <a:chExt cx="3814920" cy="2216160"/>
          </a:xfrm>
        </p:grpSpPr>
        <p:sp>
          <p:nvSpPr>
            <p:cNvPr id="397" name="Isosceles Triangle 12"/>
            <p:cNvSpPr/>
            <p:nvPr/>
          </p:nvSpPr>
          <p:spPr>
            <a:xfrm>
              <a:off x="1066680" y="3828960"/>
              <a:ext cx="3814920" cy="1675080"/>
            </a:xfrm>
            <a:prstGeom prst="triangle">
              <a:avLst>
                <a:gd name="adj" fmla="val 25815"/>
              </a:avLst>
            </a:prstGeom>
            <a:solidFill>
              <a:srgbClr val="94c600"/>
            </a:solidFill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"/>
            <p:cNvSpPr/>
            <p:nvPr/>
          </p:nvSpPr>
          <p:spPr>
            <a:xfrm>
              <a:off x="3303720" y="4165560"/>
              <a:ext cx="6361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2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"/>
            <p:cNvSpPr/>
            <p:nvPr/>
          </p:nvSpPr>
          <p:spPr>
            <a:xfrm>
              <a:off x="1143000" y="4354560"/>
              <a:ext cx="63612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9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"/>
            <p:cNvSpPr/>
            <p:nvPr/>
          </p:nvSpPr>
          <p:spPr>
            <a:xfrm>
              <a:off x="2457000" y="5563080"/>
              <a:ext cx="6940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5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2"/>
          <p:cNvGrpSpPr/>
          <p:nvPr/>
        </p:nvGrpSpPr>
        <p:grpSpPr>
          <a:xfrm>
            <a:off x="5877000" y="4524480"/>
            <a:ext cx="2276280" cy="1488960"/>
            <a:chOff x="5877000" y="4524480"/>
            <a:chExt cx="2276280" cy="1488960"/>
          </a:xfrm>
        </p:grpSpPr>
        <p:sp>
          <p:nvSpPr>
            <p:cNvPr id="402" name="Isosceles Triangle 10"/>
            <p:cNvSpPr/>
            <p:nvPr/>
          </p:nvSpPr>
          <p:spPr>
            <a:xfrm>
              <a:off x="5960880" y="4524480"/>
              <a:ext cx="2192400" cy="1019160"/>
            </a:xfrm>
            <a:prstGeom prst="triangle">
              <a:avLst>
                <a:gd name="adj" fmla="val 25815"/>
              </a:avLst>
            </a:prstGeom>
            <a:solidFill>
              <a:srgbClr val="94c600"/>
            </a:solidFill>
            <a:ln w="15840">
              <a:solidFill>
                <a:srgbClr val="6b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2"/>
            <p:cNvSpPr/>
            <p:nvPr/>
          </p:nvSpPr>
          <p:spPr>
            <a:xfrm>
              <a:off x="6770160" y="5531760"/>
              <a:ext cx="424440" cy="4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2"/>
            <p:cNvSpPr/>
            <p:nvPr/>
          </p:nvSpPr>
          <p:spPr>
            <a:xfrm>
              <a:off x="7396560" y="4724640"/>
              <a:ext cx="6361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4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2"/>
            <p:cNvSpPr/>
            <p:nvPr/>
          </p:nvSpPr>
          <p:spPr>
            <a:xfrm>
              <a:off x="5877000" y="4779720"/>
              <a:ext cx="44172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3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swer: 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ultiple options of how to solv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One is 9/3 = 15/x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762120" y="19000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Verdana"/>
              </a:rPr>
              <a:t>Fundamental Ag Mechanics students will be able to use proportions to solve agricultural mechanic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g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undamental Ag Mechanics, 3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reate sketches of agricultural equipmen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Utilize drawing techniques to develop a simple sketc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Use scale measurement and dimension to develop simple plans and sketch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ademic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9-12.G.2.3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udents are able to use proportions to solve problems (Application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portions use ratios to help find the equality between two numbe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 proportion can be written as a/b = c/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portions are used typically to solve for an unknown, c or 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hay wagon has a floor plan with a length of 20 feet and a width of 10 feet. This wagon is sketched onto a piece of paper and when you measure the length with a ruler it is 5 inches. What would be the width of the wagon at that scal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920" y="2323800"/>
            <a:ext cx="68817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dentify what we kno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A 20-foot line is sketched to 5 inches on paper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e want to find how many inches a 10-foot line would be on that sketch to keep it to scal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he value we want to find is represented by an x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We can set up a ratio in our a/b = c/d; it would look like this 20 feet/5 inches = 10 feet/x inche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ross multipl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20 feet          10 feet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5 inches        x inches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o get 20x = 50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Straight Connector 2"/>
          <p:cNvSpPr/>
          <p:nvPr/>
        </p:nvSpPr>
        <p:spPr>
          <a:xfrm>
            <a:off x="1447920" y="5378400"/>
            <a:ext cx="10666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5"/>
          <p:cNvSpPr/>
          <p:nvPr/>
        </p:nvSpPr>
        <p:spPr>
          <a:xfrm>
            <a:off x="2835360" y="5378400"/>
            <a:ext cx="106668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2521440" y="521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Straight Arrow Connector 6"/>
          <p:cNvCxnSpPr/>
          <p:nvPr/>
        </p:nvCxnSpPr>
        <p:spPr>
          <a:xfrm>
            <a:off x="2490840" y="5202000"/>
            <a:ext cx="364320" cy="346680"/>
          </a:xfrm>
          <a:prstGeom prst="straightConnector1">
            <a:avLst/>
          </a:prstGeom>
          <a:ln w="9360">
            <a:solidFill>
              <a:srgbClr val="94c600"/>
            </a:solidFill>
            <a:miter/>
            <a:tailEnd len="med" type="arrow" w="med"/>
          </a:ln>
        </p:spPr>
      </p:cxnSp>
      <p:cxnSp>
        <p:nvCxnSpPr>
          <p:cNvPr id="359" name="Straight Arrow Connector 11"/>
          <p:cNvCxnSpPr/>
          <p:nvPr/>
        </p:nvCxnSpPr>
        <p:spPr>
          <a:xfrm flipH="1">
            <a:off x="2494800" y="5187960"/>
            <a:ext cx="345240" cy="364320"/>
          </a:xfrm>
          <a:prstGeom prst="straightConnector1">
            <a:avLst/>
          </a:prstGeom>
          <a:ln w="9360">
            <a:solidFill>
              <a:srgbClr val="94c600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920" y="2323800"/>
            <a:ext cx="68817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ollowing algebraic rules, get x alo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To do that, divide both sides by 20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20x       50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20       20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his gives us: x = 2.5 inch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he width of the wagon would be 2.5 inches on the sketch to keep it to scale with the length drawn at 5 inch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Note: this is a ¼ inch = 1 foot scal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Straight Connector 9"/>
          <p:cNvSpPr/>
          <p:nvPr/>
        </p:nvSpPr>
        <p:spPr>
          <a:xfrm>
            <a:off x="1660680" y="3352680"/>
            <a:ext cx="53316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2"/>
          <p:cNvSpPr/>
          <p:nvPr/>
        </p:nvSpPr>
        <p:spPr>
          <a:xfrm>
            <a:off x="2454120" y="3352680"/>
            <a:ext cx="533520" cy="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3"/>
          <p:cNvSpPr/>
          <p:nvPr/>
        </p:nvSpPr>
        <p:spPr>
          <a:xfrm>
            <a:off x="2179800" y="3168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69580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wood feed bunk is 8 feet long by 2 ½ feet wide. What would be the length and width on a ½ inch = 1 foot scal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 Matzner</cp:lastModifiedBy>
  <dcterms:modified xsi:type="dcterms:W3CDTF">2011-08-04T17:55:46Z</dcterms:modified>
  <cp:revision>116</cp:revision>
  <dc:subject/>
  <dc:title>South Dakota Ag Education</dc:title>
</cp:coreProperties>
</file>